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9C7A-9C8D-415C-9903-0022122B6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4147-B907-4BC5-B93B-4FE5CA8D1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5E9F-310E-41E4-A694-18B3AC009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83BD-7E6F-4A76-9B5E-A333449F2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151B-B9D2-456B-A447-453002E4F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0E15-0737-4CC4-99C5-E87D308C7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A0CD-BD73-46F7-AEB0-CF0E802FC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38CF-EF58-4CF3-8360-9FC14A2E2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D75E-B7EB-457B-8578-5FECDAFE3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AE9A-E19E-4EA4-BE8A-E4B8DA85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DBB6-A842-45C3-8970-E31B3786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97D0-7CD1-4AD2-AF8B-9CEE5B23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153f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12306-9917-4E7A-80F7-40986B103C7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371600"/>
            <a:ext cx="9144000" cy="152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153f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CE 363 Design Projec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il Choudhary, Eyad Lababidi, Kate Vance, Matt Bockne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153f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parato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 gain Differential Am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6705720" cy="4622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153f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rect A/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ccesive Vref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rge Array Nbits then 2^N Compara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152280" y="3352680"/>
            <a:ext cx="8562960" cy="2438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153f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iority Encod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6 bits to 4 b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rge but fa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153f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/D Conver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istive ladder and summing amplifi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1600200" y="2168640"/>
            <a:ext cx="5791320" cy="4479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153f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/D in A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Content Placeholder 3" descr="ArbDemo.png"/>
          <p:cNvPicPr/>
          <p:nvPr/>
        </p:nvPicPr>
        <p:blipFill>
          <a:blip r:embed="rId1"/>
          <a:stretch/>
        </p:blipFill>
        <p:spPr>
          <a:xfrm>
            <a:off x="1066680" y="1600200"/>
            <a:ext cx="7053480" cy="5040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153f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/D in A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772400" cy="5119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153f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l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e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etri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153f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verview of AL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Rectangle 3" descr=""/>
          <p:cNvPicPr/>
          <p:nvPr/>
        </p:nvPicPr>
        <p:blipFill>
          <a:blip r:embed="rId1"/>
          <a:stretch/>
        </p:blipFill>
        <p:spPr>
          <a:xfrm>
            <a:off x="457200" y="1949400"/>
            <a:ext cx="8229600" cy="3827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153f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side AL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Rectangle 3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724640" cy="4952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153f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sign and Innov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:8 Decoder and t-gate vs muxing outpu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ves power and a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parate logic for worst case 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chester adder with inverted carry ch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153f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iz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zed to minimize WC delay, rest minim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put registers sized up to drive inpu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:8 Decoder sized up to drive all t-g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153f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DD/SU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used logic of ADDER + XOR&lt;0:15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ol -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Xor and Carry in&lt;0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chester Carry Ch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st case is carrying through propagate ch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=&lt;0…00&gt;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lt;0..001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=&lt;0…00&gt;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lt;1…11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ol=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153f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DD/SUB Optomiz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ce buffers every 4 in carry ch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larger inverters as buff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apt carry chain to deal with inversion as nee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de T-gates larger for less resis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153f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rbitrary Fun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log to digital and digital to analog conver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signals must be digitiz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esting and non-static imple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9T04:59:39Z</dcterms:created>
  <dc:creator>Matthew Bocknek</dc:creator>
  <dc:description/>
  <dc:language>en-US</dc:language>
  <cp:lastModifiedBy>N</cp:lastModifiedBy>
  <dcterms:modified xsi:type="dcterms:W3CDTF">2008-04-29T15:49:02Z</dcterms:modified>
  <cp:revision>25</cp:revision>
  <dc:subject/>
  <dc:title>Arbitrary Function</dc:title>
</cp:coreProperties>
</file>